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39A23-9351-4FDE-AE65-AA165616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51DFB-89A5-413F-9823-15DE0CD8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06211-E6F6-4AE1-ADF3-7F57658B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D030C-25A0-4B7F-B5DF-1F2298AB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37E3-AC6E-4E06-86BD-D0CA5785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CFB8-E55E-42B1-B341-18DCF707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2335-6C9D-4654-AF67-A837912C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9875-83E3-423B-8592-D0F2E832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2578-9D09-4E3E-808F-88D1C353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6589-E9E2-47F7-A91A-A7F84F89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0570-C3E5-47CC-BF92-9BF846AF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A4F1F-2C64-4913-A3DC-3002B327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932B-BE14-4C5C-A417-DF9765D2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A865-632C-41A8-90B0-66A7FF8E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4675-1FF3-4645-A9FE-B8FE7961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A395-48F1-4424-8C9F-DB8DCFE6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9BF3-EBCC-4DA2-9283-B746CC19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EFE1F-3077-4C2E-B429-87B212F8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DD684-1EB9-476C-A143-4F837C4C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988D3-D98E-4960-B983-EB150F83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7F72F-1600-4AA6-9859-AF9261BB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5A6AC-DDF1-4408-BA17-895B4F96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477BE-F64B-4DB9-A968-0361ADE4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ED0F1-0101-4B50-9469-DB6CCB45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99E6-67C7-4924-8A9B-E1DDAB467C1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D090-F00F-4891-87AB-56B57FFD2C7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14480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19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42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Бог е светлина всеки ден и час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ъв тъмнина осветлява Сп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ми е спасение от грижи и страх, живота ми пълни със радост и смях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44648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Бог е светлин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ен сила и мощ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одител е мо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з ден и през нощ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468360" y="1445760"/>
            <a:ext cx="9793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Бог е светлина! И в най-тъмен мрак щом с мен е Исус, мен светло е пак! „Аз съм светлината!" - каза наший Спас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к ще да остана във мрака тогаз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252360" y="144648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Бог е светлин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ен сила и мощ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одител е мо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з ден и през нощ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13940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Бог е светлина! Той бди зарад мен да не бъда аз в борбата слом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моята слабост покрива със мощ, с ръка Ся ме води през ден и през нощ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144648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Бог е светлин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ен сила и мощ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одител е мо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з ден и през нощ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2-20T08:22:53Z</dcterms:modified>
  <cp:revision>130</cp:revision>
  <dc:subject/>
  <dc:title>Slide 1</dc:title>
</cp:coreProperties>
</file>